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376E-53DD-4FD4-A572-290FCD53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A96E-60CA-47CB-AD32-DA52711F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A4DD-9285-47C9-97D9-4FC2DD3E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E8FB-DE9D-4686-8F6E-8EF1F255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0A1D-BEDC-4F69-83F8-856EC43B2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45C-D0FF-4D24-87A4-F5B3F7D7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639-21D5-48AF-85C1-02031EBA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8C2-54DE-4173-8087-4C5EDF76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7AD-9C21-4968-9317-97995E60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4C8-74D7-4204-97B4-F583F9B5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622A-9EE1-4668-8DFC-3ACFDEAD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3D0E-5B78-44D0-9DBB-A4318F4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305E-6E49-46A3-B95E-982E2455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19AF-1B15-4482-9C71-4CBB581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4DC-4A11-44DE-8ADC-808B6D4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D437-242A-44C5-B37B-8611184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FE8-7716-4A0C-8840-0DA173AA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4C56-1539-4A80-BF4C-2B591635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F2B-060B-45A5-AC79-909DC7B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8DF7-2865-46BA-AA9B-70804C58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EB00-1B99-496E-B2C6-4FD47AF3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68C4-0FE2-4A4F-85A1-65701E72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EAB9-A9F1-4C4A-BA14-611732A9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6E1B-FFDC-43FF-836A-9CFA7211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46C4-59C9-497C-BE0D-80754525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5035-ECED-4C61-8565-B9F117D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24A8-8F04-4F41-80A6-E6FF17E2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D68-F4CE-4D4D-8583-A184E7C7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7487-A309-4C47-AF67-2ABC7D25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F147-C9EA-4C6E-B27F-0DD9B8A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F6F4-7EED-4A50-AF9F-FCE965E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835D-896A-428B-A3B4-B9A2DD0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66FC3-EF8F-4F4F-85A9-B21C393C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B51F-265A-48A6-A8CB-1010FF91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2F02-83AB-42D3-A057-BBAB89C6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9691-7F4C-45D3-8072-95C88ED7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BC72-3020-49A2-AF1F-1D0B05FF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E9545-D667-4BF2-AFD2-6C275ECC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927-F6DE-4E87-9E3B-3704A216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23DB-0628-41B9-9CC5-0EA9B1A4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D698-C402-4A65-A18D-3E1C3414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C02D-0DBE-4811-8285-21DE9FA2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70EB-864B-4255-9052-D248FB1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60B3-131E-4D16-B831-DAD123B3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A667B-8981-4AF8-893A-E3CA7EFB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DA9A-1055-4866-8FBF-517B6BC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CA847-B628-49C1-A9DE-171C7E2E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D80A3-AAD2-4D6D-8B2E-C2557AC7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72ED-A043-4F87-9E11-BC552213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263B-5662-4CF7-B622-984B2671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1096-2B88-428F-8E7E-A1B7017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FCB8-7538-4F2C-9FCE-7EFC6D77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B9E4-B174-4532-9D0C-0D67AD85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71B2-F9F9-48A6-B4EE-7E64E63E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B9DD-7889-4A19-AAA6-7FA748F5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DA40-8F76-4912-A0C5-B49C8545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0681-F4C3-4009-8978-7E9390D8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535E-A1B7-4F8C-97FC-80FFA034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8C2D-53C4-4647-947C-33EBF39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0158-28DB-4552-8B21-BD97B085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64C-62CF-4FCF-B52F-27E67C7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11F4-7276-4D9F-85D3-80AB4E5F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652-BBEA-4281-A851-7ECD3B48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46F-6B0A-43FC-ACC1-3D5BA86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C35-A2EC-4329-B272-1B24F795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BEDB-7E46-4F47-A526-AFBF2536725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E64B-B77B-43E6-86C0-04BA160FB5E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42B5-1677-42F9-8ECA-4F5E65417B4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56F9-E7B4-4177-A7EF-F9B7564CFBF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B41-7C3F-4087-A152-A95AC537E86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ow to Add Mixed Numbe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parate the whole number parts from the fraction par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common denominators for the fractions and then add the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the whole numbers togeth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295280" y="22860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295280" y="332100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057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57200" y="34894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57200" y="4648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20574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20574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205740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20574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335268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4724280" y="22543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33526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4724280" y="32767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8"/>
          <p:cNvSpPr/>
          <p:nvPr/>
        </p:nvSpPr>
        <p:spPr>
          <a:xfrm>
            <a:off x="53341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228600" y="5943600"/>
            <a:ext cx="3429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CM of 4 and 6 is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53341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1"/>
          <p:cNvSpPr/>
          <p:nvPr/>
        </p:nvSpPr>
        <p:spPr>
          <a:xfrm>
            <a:off x="52578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2"/>
          <p:cNvSpPr/>
          <p:nvPr/>
        </p:nvSpPr>
        <p:spPr>
          <a:xfrm>
            <a:off x="5410080" y="2438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3"/>
          <p:cNvSpPr/>
          <p:nvPr/>
        </p:nvSpPr>
        <p:spPr>
          <a:xfrm>
            <a:off x="5257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4"/>
          <p:cNvSpPr/>
          <p:nvPr/>
        </p:nvSpPr>
        <p:spPr>
          <a:xfrm>
            <a:off x="4800600" y="4572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5"/>
          <p:cNvSpPr/>
          <p:nvPr/>
        </p:nvSpPr>
        <p:spPr>
          <a:xfrm>
            <a:off x="57150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57913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579132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4419720" y="45720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Line 4"/>
          <p:cNvSpPr/>
          <p:nvPr/>
        </p:nvSpPr>
        <p:spPr>
          <a:xfrm>
            <a:off x="22096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86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2860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914400" y="1981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487692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48769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114800" y="23763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4876920" y="23623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5181480" y="17668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876920" y="28335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80060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4648320" y="35812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5181480" y="3429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1143000" y="48448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209680" y="484488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895480" y="48769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2"/>
          <p:cNvSpPr/>
          <p:nvPr/>
        </p:nvSpPr>
        <p:spPr>
          <a:xfrm>
            <a:off x="34290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3581280" y="487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505320" y="5410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267080" y="48769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4952880" y="4876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5867280" y="54864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8"/>
          <p:cNvSpPr/>
          <p:nvPr/>
        </p:nvSpPr>
        <p:spPr>
          <a:xfrm>
            <a:off x="6019920" y="4952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5943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13:44:53Z</dcterms:created>
  <dc:creator>Josh Hammond</dc:creator>
  <dc:description/>
  <dc:language>en-US</dc:language>
  <cp:lastModifiedBy>Home</cp:lastModifiedBy>
  <dcterms:modified xsi:type="dcterms:W3CDTF">2010-11-14T15:55:10Z</dcterms:modified>
  <cp:revision>12</cp:revision>
  <dc:subject/>
  <dc:title>Adding Mixed Numbers</dc:title>
</cp:coreProperties>
</file>